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694-4469-447E-B7FD-6992EEE2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940-852A-4F0D-AD2B-0A11528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C06-0470-4E77-AACE-936C3C39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DEF-339C-408B-9EAD-C7193843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2C2-9606-4992-BA19-78D47666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7661-4AB5-4236-807F-35FFB91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02B-C7B1-410C-8DE9-57E512A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1170-C309-4884-8814-36AE735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091-C05B-430A-BD34-40FE02B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B4A0-AC63-45F2-9CB7-8F947FC0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9A06-17ED-4AF3-A588-655FACE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532-DCF3-4B7C-A670-12CE7BF6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C67E-04C5-4DCD-A932-13B8A9D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7AA7-84B9-4BE5-86CE-63E53D3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A716-B9A2-41F1-B0DA-8E050A1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EBC0-9677-4FA5-B77F-F3BB0F64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B71-A35A-4C7C-97C0-76CA23DE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ECF-178E-4837-84A2-D20FF2C3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2EB-BBDC-4B6E-83A2-C03A07C3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7C5-8697-49E1-94D6-3A726A31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DC9-1067-46A9-B4EF-0B051C6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AEC-64EE-4A0D-AB0B-7F53DA9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334-269F-4472-B5CD-04241D3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B2E-13BB-433A-B812-70D359D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11C-A7D7-4333-9580-461AADC42D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B88-770E-40DF-B16F-9F08B4F9DF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UNIVERSAL GRAVITATION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4498560"/>
            <a:ext cx="350532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rti Andreski De La Salle 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. Kepler’s First Law of Planetary Motion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2209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lanets move in elliptical orbits with the sun at one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610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8381880" cy="3353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. Kepler’s Second Law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s a planet orbits the sun, a line drawn from the sun to the planet sweeps out equal areas in equal time inter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895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25780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s the “aphelion” – when a planet is farthest from the 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066680" y="449532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257800"/>
            <a:ext cx="2819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s the “perihelion” – when a planet is closest to the 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05720" y="4495680"/>
            <a:ext cx="144756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. Kepler’s Third Law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ratio of the average distance from the sun, cubed, to the period (T) squared, is the same constant, K, for all pla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rmula:  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4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 / T</a:t>
            </a:r>
            <a:r>
              <a:rPr b="1" i="1" lang="en-US" sz="4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 = 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. Newton’s Law of Universal Gravitation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400" y="182880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gravitational force between 2 objects of masses m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separated by distance “d”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rmula:  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F = G  m</a:t>
            </a:r>
            <a:r>
              <a:rPr b="0" i="1" lang="en-US" sz="4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i="1" lang="en-US" sz="4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 /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4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3341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 = 6.67 x 1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/ k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57600" y="4724280"/>
            <a:ext cx="1828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aid another way…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ravitation varies directly with the product of the masses of the objects and inversely with their separation, squa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mportant: this is a 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center to center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Kepler  Added…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ravitation decreases inversely with the distance, squa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rmula:  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1 / d</a:t>
            </a:r>
            <a:r>
              <a:rPr b="1" i="1" lang="en-US" sz="4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 = grav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ny of these problems must be solved “differently” from most word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ough we have formulas, many of these problems are not asking for a specific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c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, but “how many times does the force increase” or “by what fraction is the distance reduc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olving Proces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o the solving process i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ut 1’s in f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gs that don’t chang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and numbers which represent the magnitude of th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I. Background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t is important to give credit to the handful of astronomers and physicists who shaped our thoughts on the universe more than 250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A. Aristotle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384-322 BC) – had a “geocentric” philosophy (Earth is at the center; planets and sun revolve around the Ear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. Copernicus, Nicolau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472-1543) Polish astronomer who had a “heliocentric” philosophy (Sun at center; planets revolve around it; Earth is “just another planet”, planets spin on axes; planets travel in circular orbits (wrong); stated that all matter interacts via grav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. Brahe, Tycho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546-1601) Danish astronomer who was a great observer of the heavens; was anti-Copernican; moved to Prague; hired Kepl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Had a notable personal story in that he wore a gold and silver replacement nose due to losing his nose in a duel over who was a better mathemat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. Kepler, Johann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571-1630) German mathematician; took Brahe’s observations and made mathematical relationships; argued that both the sun and the moon influenced the tides; wrote “planetary music”; developed “3 Laws of Planetary Motion” (to be discussed in detail soon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E. Galileo, Galilei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564-1642) Italian physicist and mathematician who studied mechanics (motion and actions of forces on bodies); adopted Copernican hypothesis of solar system; invented the first “high-powered” (30x) tele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. Newton, Sir Isaac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1643-1727) English mathematician and physicist;  developed the “Law of Universal Gravit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II. Important Astronomical Laws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400" y="4190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Kepler’s 3 Laws of Planetary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ewton’s Law of Universal Grav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10:47Z</dcterms:created>
  <dc:creator>andreskim</dc:creator>
  <dc:description/>
  <dc:language>en-US</dc:language>
  <cp:lastModifiedBy>andreskim</cp:lastModifiedBy>
  <dcterms:modified xsi:type="dcterms:W3CDTF">2004-11-29T17:18:00Z</dcterms:modified>
  <cp:revision>45</cp:revision>
  <dc:subject/>
  <dc:title>NOTES - EQUATIONS I. GENERAL INFO -  chem equations are expressions of reactions (rxns)  they consist of 2 parts: REACTANTS -----------&gt; PRODUCTS                         left            "yields"       right  ie: lead (II) nitrate and potassium iodide react together to form         lead (II) iodide and potassium nitrate    Pb(NO3)2       +      KI     -----&gt;      PbI2    +    KNO3 </dc:title>
</cp:coreProperties>
</file>